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053-DB35-4D19-A1E8-38C03DCC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B63-83DD-4C7F-97F3-9A6FD62F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771-56D0-4D78-B907-71B8893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A00-77D7-4B4D-99C1-82296CCF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7CD-B375-4A4C-9470-1239113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43C-E981-4EBE-ADF0-89D44C68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702-A644-4970-8985-FCA1C28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43D-6E98-4FCE-B334-F9FDCA66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6E-3EAE-4859-9943-2D4066D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A72-99FD-4DB8-BC19-A6398DA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37E-C697-40E7-9615-B2CC6F3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033-220F-4152-AB56-7CE01F28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18E-0001-4D99-9AFF-4C83CF8A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840" y="743040"/>
            <a:ext cx="8572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Arial"/>
              </a:rPr>
              <a:t>O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e vais all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Barcel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Argelès-sur-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au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aux États-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3810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Qu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vais voy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h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utom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 prin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vais partir 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 je vais être de retour 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057400" cy="181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220680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cc"/>
                </a:solidFill>
                <a:latin typeface="Arial"/>
              </a:rPr>
              <a:t>Avec qui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2667240" cy="318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a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es 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a classe d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ul/ se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8335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b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À vé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2324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cc00"/>
                </a:solidFill>
                <a:latin typeface="Arial"/>
              </a:rPr>
              <a:t>Où tu vas lo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ans un ca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ans un hô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Chez des 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380988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Quel temps il va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ne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pleu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faire b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faire du 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4576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00ff"/>
                </a:solidFill>
                <a:latin typeface="Arial"/>
              </a:rPr>
              <a:t>Qu’est-ce que tu vas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 visites tour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vé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’accrobran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ch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ka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857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33"/>
                </a:solidFill>
                <a:latin typeface="Arial"/>
              </a:rPr>
              <a:t>Le voyage va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nuy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tig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gn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é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nt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u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1735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7:34:50Z</dcterms:created>
  <dc:creator>nombre</dc:creator>
  <dc:description/>
  <dc:language>en-US</dc:language>
  <cp:lastModifiedBy>nombre</cp:lastModifiedBy>
  <dcterms:modified xsi:type="dcterms:W3CDTF">2013-05-26T09:20:22Z</dcterms:modified>
  <cp:revision>5</cp:revision>
  <dc:subject/>
  <dc:title>Diapositiva 1</dc:title>
</cp:coreProperties>
</file>